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2ED-0EB7-4146-A46C-8335C1D6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C31-C20B-4986-8729-B17F83A9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EE5-C0DE-4BCC-A5AD-63832A06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83D-21A9-4B06-8E11-25B9611C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51C-7123-4EC8-A91E-A7BA6EB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5B0-88E3-4E52-A4D5-127E3D20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20D-7C00-47F9-A1CA-EEB4175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487-231E-4F34-9F95-F0FB096B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4B4-4CD1-4076-9969-41CE50C3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F34-32AF-451B-8D07-3187E1F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797-4954-4B61-A1E6-9645C23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93B-3E19-4765-A28A-83A0DDE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57DA-C57F-41B4-B2C4-8995BDEFD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前段时间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全国各地的反日浪潮图片展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63120" y="260280"/>
            <a:ext cx="2649240" cy="64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深圳</a:t>
            </a: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:</a:t>
            </a: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反对日本入常百万人签名活动</a:t>
            </a: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943600"/>
            <a:ext cx="71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抵制日货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隶书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59436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抵制日货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561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87700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反日游行示威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00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237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群众集会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反对霸权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达中国人心声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1:06:4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8:49Z</dcterms:modified>
  <cp:revision>4</cp:revision>
  <dc:subject>主题班会课件(分28大类): http://shop62905894.taobao.com</dc:subject>
  <dc:title>主题班会课件(分28大类): http://shop62905894.taobao.com</dc:title>
</cp:coreProperties>
</file>